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62F-9B9D-41E3-BC1E-2E9DCBE6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020-173C-4992-BB47-C48093E5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1A0-4B6E-452A-A2DF-8E084C8E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51B-0FB5-4C03-AE8A-D4A258BC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49D-4729-4CEB-AEAE-0CC35B6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C6C-BDA1-43B0-8803-D55D350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98E-3F6D-49FF-AB82-E756760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37C-8351-41E5-B81F-2B4E49F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78F-D370-4C59-B672-E13E7B9E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91C-D4FA-4D00-8261-CA60913D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38F-853F-4E95-8222-6B9D252B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E74-E4A4-4BC7-AF19-8F45211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F755-535A-4D0A-B8A6-966C2B556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685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基本指令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143000" y="1751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3560" y="297072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2760" y="419004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9960" y="4723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50400" y="358020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9960" y="579024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54200" y="525672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8840" y="236124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点动控制程序与编程软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10880" y="487080"/>
            <a:ext cx="297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3.1.3  PLC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控制系统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80000"/>
            <a:ext cx="822960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控制系统硬件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是由大量的硬件继电器组成，结构复杂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主要是由程序（软继电器）组成，在硬件连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需要接入输入信号和受控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的控制功能强大，修改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电器控制系统的功能是通过器件连线实现的，控制功能相对简单，并且不易改变。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功能是由计算机软件实现的，不但具有强大的逻辑计算控制功能，而且可以根据工艺需要方便地修改控制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系统稳定、维护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性能指标高，故障率低，抗干扰性强，能在工业生产环境下长期稳定工作。据统计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的电气故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发生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外部电路。当电路发生故障时，可根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端口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判断产生故障的部位，以便迅速排除故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030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4800600" cy="403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556272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  PL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硬件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7328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2520" y="396360"/>
            <a:ext cx="2579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4  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的硬件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144720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CP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逻辑运算和控制指挥中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6514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固化着系统程序，存储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存放用户程序和工作数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175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源将外部电能转换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器件使用的各种电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470200"/>
            <a:ext cx="2362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接口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外设进行交换信息和写入程序的通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29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46040" y="3492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4520" y="975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接口用来完成输入信号的引入、滤波及电平转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3840" y="5333400"/>
            <a:ext cx="21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接口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65160" y="577800"/>
            <a:ext cx="1047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848720" cy="2425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2560" y="4494960"/>
            <a:ext cx="18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371600"/>
          <a:ext cx="7391520" cy="4753440"/>
        </p:xfrm>
        <a:graphic>
          <a:graphicData uri="http://schemas.openxmlformats.org/drawingml/2006/table">
            <a:tbl>
              <a:tblPr/>
              <a:tblGrid>
                <a:gridCol w="808200"/>
                <a:gridCol w="1048680"/>
                <a:gridCol w="2012040"/>
                <a:gridCol w="1760400"/>
                <a:gridCol w="1762200"/>
              </a:tblGrid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体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晶闸管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25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30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 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 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路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机械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光电耦合绝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载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公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A/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A/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→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以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645640" y="685080"/>
            <a:ext cx="34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电路的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719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1360" y="758880"/>
            <a:ext cx="4985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1.5  FX</a:t>
            </a:r>
            <a:r>
              <a:rPr b="1" lang="zh-CN" sz="2400" spc="-1" strike="noStrike" baseline="-30000">
                <a:solidFill>
                  <a:srgbClr val="cc0000"/>
                </a:solidFill>
                <a:latin typeface="Times New Roman MT Extra Bold"/>
                <a:ea typeface="黑体"/>
              </a:rPr>
              <a:t>2N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系列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基本单元的型号与端子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21640" y="1553760"/>
            <a:ext cx="391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基本单元的型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6629400" cy="182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14400" y="5166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表示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的基本单元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总接口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继电器输出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88160" y="334440"/>
            <a:ext cx="4095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FX2N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系列基本单元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I/O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端子的排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4648320" cy="2698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5257800" cy="2690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1447200"/>
            <a:ext cx="21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  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996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  FX2N-32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子排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1720" y="36576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输出端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2265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39280" y="3656880"/>
            <a:ext cx="22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接口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3880" y="4510440"/>
            <a:ext cx="702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48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组情况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3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3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87120" y="563040"/>
            <a:ext cx="3356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6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循环扫描工作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2409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02120" y="3656880"/>
            <a:ext cx="25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  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循环扫描工作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848720" y="57150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540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程序执行和输出刷新阶段，即使输入状态发生变化，程序也不读入新的输入数据，这样增强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抗干扰能力和程序执行的可靠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57920" y="410760"/>
            <a:ext cx="2859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3.2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点动控制程序与编程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480" y="1020240"/>
            <a:ext cx="373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输入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和输出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24640" cy="1042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21440" y="30474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继电器的线圈和接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1320" y="35046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入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0989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入继电器以八进制进行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360" y="4937400"/>
            <a:ext cx="152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输出继电器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2284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输出继电器也是八进制编号，地址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2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219320" y="5324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1  PLC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的基本知识与手持编程器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9840" y="1065960"/>
            <a:ext cx="243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产品的外形、内部结构和面板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5334120" cy="484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05720" y="54705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X2N-16M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编程序控制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98800" y="334440"/>
            <a:ext cx="5409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2    L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I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U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指令及其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0640" y="1218600"/>
            <a:ext cx="41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05120"/>
          <a:ext cx="7848720" cy="3657600"/>
        </p:xfrm>
        <a:graphic>
          <a:graphicData uri="http://schemas.openxmlformats.org/drawingml/2006/table">
            <a:tbl>
              <a:tblPr/>
              <a:tblGrid>
                <a:gridCol w="1143000"/>
                <a:gridCol w="1959120"/>
                <a:gridCol w="2103120"/>
                <a:gridCol w="1563840"/>
                <a:gridCol w="1079640"/>
              </a:tblGrid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辑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功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序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开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开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常闭接点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闭接点与左母线连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驱动线圈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2000" y="456120"/>
            <a:ext cx="4587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2.3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应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编程软件编写点动控制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2280"/>
            <a:ext cx="7696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点动控制线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动机的点动控制要求是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运转；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动机停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814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53040" y="6247800"/>
            <a:ext cx="36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控制线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线图和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91280" y="365400"/>
            <a:ext cx="50068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三菱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编程软件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SWOPC-FXGP/WIN-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1174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62240" y="23616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初始启动画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5715000" cy="3387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86600" y="4327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229600" cy="524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82280" y="5942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编辑的主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1120" cy="85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798880" y="4564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输入对话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0" t="7154" r="0" b="4204"/>
          <a:stretch/>
        </p:blipFill>
        <p:spPr>
          <a:xfrm>
            <a:off x="228600" y="1295280"/>
            <a:ext cx="8153280" cy="1711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01320" y="312336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7925040" cy="193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96400" y="594288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258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82200" y="3047400"/>
            <a:ext cx="21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输入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6705720" cy="2530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467480" y="4662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梯形图转换为指令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0680" y="351000"/>
            <a:ext cx="2006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用户程序写入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P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6095880" cy="262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858000" y="1659960"/>
            <a:ext cx="180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4191120" cy="2170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690520" y="5409360"/>
            <a:ext cx="27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传送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93560" y="365400"/>
            <a:ext cx="1907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运行程序或停止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001000" cy="208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3733920" cy="194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6680" y="556200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运行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34480" y="380520"/>
            <a:ext cx="114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程序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6213" r="0" b="0"/>
          <a:stretch/>
        </p:blipFill>
        <p:spPr>
          <a:xfrm>
            <a:off x="228600" y="914400"/>
            <a:ext cx="8534520" cy="207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43120" y="32457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8382240" cy="20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12800" y="6095160"/>
            <a:ext cx="20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监控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948480" y="3038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3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串并联指令、置位指令与自锁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1600200"/>
          <a:ext cx="9144000" cy="1433520"/>
        </p:xfrm>
        <a:graphic>
          <a:graphicData uri="http://schemas.openxmlformats.org/drawingml/2006/table">
            <a:tbl>
              <a:tblPr/>
              <a:tblGrid>
                <a:gridCol w="1550880"/>
                <a:gridCol w="1554120"/>
                <a:gridCol w="2416320"/>
                <a:gridCol w="2403360"/>
                <a:gridCol w="12193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路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Times New Roman MT Extra Bold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串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367720" y="715680"/>
            <a:ext cx="3741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串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121860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123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201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040" y="410760"/>
            <a:ext cx="289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一个简单的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控制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065960"/>
            <a:ext cx="53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松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。控制线路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4419720" cy="376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94760" y="58665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简单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控制接线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1371600"/>
          <a:ext cx="9144000" cy="1143000"/>
        </p:xfrm>
        <a:graphic>
          <a:graphicData uri="http://schemas.openxmlformats.org/drawingml/2006/table">
            <a:tbl>
              <a:tblPr/>
              <a:tblGrid>
                <a:gridCol w="1366920"/>
                <a:gridCol w="1366920"/>
                <a:gridCol w="2668320"/>
                <a:gridCol w="2522520"/>
                <a:gridCol w="12193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开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并联一个常闭接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650320" y="105840"/>
            <a:ext cx="3558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接点并联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81000" y="837360"/>
            <a:ext cx="34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848720" cy="258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803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编写一个自锁控制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负载接触器接输出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2133720"/>
          <a:ext cx="9144000" cy="1279440"/>
        </p:xfrm>
        <a:graphic>
          <a:graphicData uri="http://schemas.openxmlformats.org/drawingml/2006/table">
            <a:tbl>
              <a:tblPr/>
              <a:tblGrid>
                <a:gridCol w="1512720"/>
                <a:gridCol w="2632320"/>
                <a:gridCol w="2631960"/>
                <a:gridCol w="2367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通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可用程序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停电保持专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（不可变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特  殊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5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02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0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0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8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共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188520" y="137880"/>
            <a:ext cx="2344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辅助继电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883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作用类似于中间继电器。辅助继电器也有常开和常闭接点，但是不能直接驱动外部负载，外部负载只能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驱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58080" y="1599480"/>
            <a:ext cx="38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件编号与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80844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运行监控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转时始终保持接通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0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初始脉冲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停止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转为运转状态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的瞬时接通一个扫描周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波振荡时钟信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零标记。加减运算结果为零时状态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否则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全部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禁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143000"/>
          <a:ext cx="9144000" cy="1919160"/>
        </p:xfrm>
        <a:graphic>
          <a:graphicData uri="http://schemas.openxmlformats.org/drawingml/2006/table">
            <a:tbl>
              <a:tblPr/>
              <a:tblGrid>
                <a:gridCol w="1154160"/>
                <a:gridCol w="1601640"/>
                <a:gridCol w="1892520"/>
                <a:gridCol w="1828800"/>
                <a:gridCol w="26668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置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接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清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线圈保持断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76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特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989080" y="137160"/>
            <a:ext cx="339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置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SET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复位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9600" y="685080"/>
            <a:ext cx="35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246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 用置位指令与复位指令编写具有自锁功能的程序。启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分别接输入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端口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输出端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534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337120" y="151200"/>
            <a:ext cx="457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5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自锁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7920" y="68508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1066680"/>
          <a:ext cx="9144000" cy="182880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2720"/>
                <a:gridCol w="1662120"/>
                <a:gridCol w="21337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流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77320" cy="2930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918520" y="60192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019920" cy="5562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147120" y="60951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自锁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20880" y="227520"/>
            <a:ext cx="1834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3.6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问题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68320"/>
            <a:ext cx="82296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继电器控制线路中，停止按钮使用常闭触头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停止按钮是使用常闭触头还是使用常开触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522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停止按钮使用常开触头的程序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，停止按钮使用常闭触头的梯形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534520" cy="2386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705040" y="47998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停止按钮使用不同触头的程序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5637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在生产设备中停止按钮要用常闭触头。同理，过载保护也应使用热继电器的常闭触头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2120" y="1402560"/>
            <a:ext cx="7467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线路中，热继电器的常闭触头是与接触器线圈串联还是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2310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答：虽然热继电器的常闭触头与接触器线圈串联可以节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但在实际设备中，往往将多个热继电器的常闭触头串联，共同占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一个输入端口，并用这个端口联锁控制整个程序。因此，热继电器的常闭触头应占用一个输入端口为宜。在本书中，为了方便读者分析程序主要语句，有时也采用热继电器的常闭触头与接触器线圈串联的方式，即热继电器的常闭触头与程序无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1120" y="3038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4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脉冲指令与正反转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2209680"/>
          <a:ext cx="9144000" cy="1660320"/>
        </p:xfrm>
        <a:graphic>
          <a:graphicData uri="http://schemas.openxmlformats.org/drawingml/2006/table">
            <a:tbl>
              <a:tblPr/>
              <a:tblGrid>
                <a:gridCol w="1219320"/>
                <a:gridCol w="1469880"/>
                <a:gridCol w="2873520"/>
                <a:gridCol w="2666880"/>
                <a:gridCol w="914400"/>
              </a:tblGrid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上升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闭合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脉冲下降沿检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件接点断开时接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扫描周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705040" y="159948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4946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脉冲上升沿、下降沿逻辑“取”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接通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→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监视元件的断开状态，即只在操作元件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→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状态时产生一个扫描周期的接通脉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720" y="944280"/>
            <a:ext cx="5127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上升沿、下降沿“取”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P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533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某台设备有两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交流接触器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出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停止按钮分别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为了减小两台电动机同时启动对供电线路的影响，让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延迟启动。控制要求是：按下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，延缓几秒钟后，松开启动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启动；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同时停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95280" y="2701800"/>
            <a:ext cx="7162920" cy="3535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397680" y="6323760"/>
            <a:ext cx="19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873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根据控制要求，启动第一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启动第二台电动机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程序梯形图和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3125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4920" y="4418280"/>
            <a:ext cx="85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程序工作原理如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启动按钮时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指令语句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P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松开启动按钮的瞬间，输入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断开，指令语句“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  LDF  X0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其后的第一个扫描周期内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均断电解除自锁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5680" y="373320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21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26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开接点闭合，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圈通电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负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。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。程序具有点动控制功能。该梯形图对应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语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219320"/>
          <a:ext cx="9143640" cy="2190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  <a:gridCol w="152388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转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2246400" y="151200"/>
            <a:ext cx="4760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4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相电动机正反转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65640" y="7614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4312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：不通过停止按钮，直接按正反转按钮就可改变转向，因此需要采用按钮联锁。为了减轻变换瞬间反向电流对电动机的冲击，适当延长变换过程，即按下正转按钮时，先停止反转，延缓片刻松开正转按钮时，再接通正转，反转过程同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2600"/>
          <a:stretch/>
        </p:blipFill>
        <p:spPr>
          <a:xfrm>
            <a:off x="1219320" y="228600"/>
            <a:ext cx="6400800" cy="556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16520" y="60951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3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629400" cy="489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977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动机正反转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435040" y="3798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5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块指令与点动自锁混合控制和多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209680"/>
          <a:ext cx="9144000" cy="73044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2819160"/>
                <a:gridCol w="198144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串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后串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410200" y="989640"/>
            <a:ext cx="40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电路块操作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NB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57984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与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并联连接的电路称为并联电路块。当并联电路块与前面的电路串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并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并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串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串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串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7040" y="1675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5940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340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并联，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成的并联电路块串联，然后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因此，要使用串联电路块指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001000" cy="321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764080" y="586656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906560" y="349920"/>
            <a:ext cx="48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77320" cy="3375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221280" y="5790600"/>
            <a:ext cx="29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与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143000"/>
          <a:ext cx="9146880" cy="730080"/>
        </p:xfrm>
        <a:graphic>
          <a:graphicData uri="http://schemas.openxmlformats.org/drawingml/2006/table">
            <a:tbl>
              <a:tblPr/>
              <a:tblGrid>
                <a:gridCol w="1296720"/>
                <a:gridCol w="1830600"/>
                <a:gridCol w="3114720"/>
                <a:gridCol w="1452600"/>
                <a:gridCol w="1452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辑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电 路 表 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块的并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点并联一个电路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776680" y="608760"/>
            <a:ext cx="32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0466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块或”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不带操作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两个或两个以上接点串联连接的电路称为串联电路块。当串联电路块与前面的电路并联连接时，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串联电路块的起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串联结束后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表示与前面的电路并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个电路块并联时，如分别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则并联电路块的数量没有限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也可以连续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但使用次数不得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84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分析其逻辑关系，并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的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形成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电路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联后再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串联，然后控制输出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程序梯形图所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077320" cy="3311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183840" y="6247800"/>
            <a:ext cx="24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或指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275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阅读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梯形图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梯形图程序中使用了并联电路块形式和串联电路块形式，对应的指令表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4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3551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69160" y="5637960"/>
            <a:ext cx="16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块指令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63280" y="198720"/>
            <a:ext cx="30837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．“上重下轻”、“左重右轻”的编程规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631800"/>
            <a:ext cx="7543800" cy="25862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7315200" cy="2508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304440" y="324576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32440" y="624780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上重下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7606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手持编程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-20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指令语句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操作步骤如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4760" y="140148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接通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52480" y="2133720"/>
          <a:ext cx="5867640" cy="1095120"/>
        </p:xfrm>
        <a:graphic>
          <a:graphicData uri="http://schemas.openxmlformats.org/drawingml/2006/table">
            <a:tbl>
              <a:tblPr/>
              <a:tblGrid>
                <a:gridCol w="586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 MODE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编程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■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 …在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LINE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                      …离线编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154160" y="3382560"/>
            <a:ext cx="170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选择在线编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14400" y="4267080"/>
          <a:ext cx="6934320" cy="14605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INE  MODE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在线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  FUNCTION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选择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 MODE         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或模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.   SETTING   8K                      …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存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96440" cy="2640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620120" cy="2612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86720" y="2818800"/>
            <a:ext cx="25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3840" y="617148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符合“左重右轻”编程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-1440" y="1295280"/>
          <a:ext cx="9145440" cy="730440"/>
        </p:xfrm>
        <a:graphic>
          <a:graphicData uri="http://schemas.openxmlformats.org/drawingml/2006/table">
            <a:tbl>
              <a:tblPr/>
              <a:tblGrid>
                <a:gridCol w="2152800"/>
                <a:gridCol w="2154240"/>
                <a:gridCol w="2419200"/>
                <a:gridCol w="241920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交替输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 作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程  序  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NC66      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74480" y="137880"/>
            <a:ext cx="286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交替输出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81600" y="837360"/>
            <a:ext cx="32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543800" cy="1760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92840" y="40377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49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替输出指令应用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6553080" cy="1544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57800" y="6247800"/>
            <a:ext cx="21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0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11760" y="379800"/>
            <a:ext cx="244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3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多地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4464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地控制是指在多个地方控制同一台电动机的启动与停止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为两地控制一台电动机的输入端接线图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程序。两地启动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两地停止按钮并联使用输入端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端口上连接热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闭触点；输出端口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534520" cy="2193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116520" y="571428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地控制接线图和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-4680" y="2666880"/>
          <a:ext cx="9148680" cy="2465640"/>
        </p:xfrm>
        <a:graphic>
          <a:graphicData uri="http://schemas.openxmlformats.org/drawingml/2006/table">
            <a:tbl>
              <a:tblPr/>
              <a:tblGrid>
                <a:gridCol w="1523880"/>
                <a:gridCol w="1525680"/>
                <a:gridCol w="1523880"/>
                <a:gridCol w="1525680"/>
                <a:gridCol w="1523880"/>
                <a:gridCol w="15256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元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制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动机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点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351520" y="151200"/>
            <a:ext cx="4394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5.4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点动自锁混合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913680"/>
            <a:ext cx="8458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要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生产设备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，除连续运行控制外，还需要用点动控制调整生产设备的状态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个操作按钮分别是启动按钮、停止按钮和点动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41960" y="213300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410080" cy="5232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69160" y="586656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混合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629400" cy="5318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330000" y="594288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动自锁组合控制线路梯形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08760" y="3798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6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延时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0" y="1828800"/>
          <a:ext cx="9144000" cy="1825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定时器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时 范 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6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m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累计定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.7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3141360" y="791640"/>
            <a:ext cx="191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定时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30520" y="137088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时器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449424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是根据时钟脉冲累计计时的，时钟脉冲周期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种规格，定时器的工作过程实际上是对时钟脉冲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有一个设定值寄存器，一个当前值寄存器。这些寄存器都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（即数值范围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 76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计时时间为设定值乘以定时器的计时单位（时钟脉冲周期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个定时器都有一个常开和常闭接点，这些接点可以无限次引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定时器满足计时条件时开始计时，定时时间到时其常开接点闭合，常闭接点断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43720" y="837720"/>
            <a:ext cx="2876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普通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0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rcRect l="0" t="0" r="0" b="2175"/>
          <a:stretch/>
        </p:blipFill>
        <p:spPr>
          <a:xfrm>
            <a:off x="380880" y="1676520"/>
            <a:ext cx="8382240" cy="3070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046680" y="5028480"/>
            <a:ext cx="247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6000" y="1660680"/>
            <a:ext cx="3159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．累计定时器（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46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T255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9260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普通定时器不同的是，累计定时器在计时中途线圈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时，当前值寄存器中的数据可以保持，当线圈重新通电时，当前值寄存器在原来数据的基础上继续计时，直到累计时间达到设定值，定时器动作。累计定时器的当前值寄存器数据只能用复位指令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8600" y="5940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01040" y="1280160"/>
            <a:ext cx="19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接通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3424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406320" y="58665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接通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4240" y="379800"/>
            <a:ext cx="3538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将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中存储的原用户程序清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1160" y="914040"/>
            <a:ext cx="18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D/W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两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/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】键。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209680"/>
          <a:ext cx="6782040" cy="146052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  CLEAR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？                   …清除所有程序吗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 →     [GO]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是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→    [CLEAR]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否→按【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】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679200" y="388584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按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】键，则清除用户存储的程序，手持编程器屏幕上显示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4495680"/>
          <a:ext cx="6933960" cy="146052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        0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465440" y="31467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4160" y="41137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28600" y="6544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程序的逻辑关系，写出对应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梯形图的逻辑关系是延时断开控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0" t="0" r="0" b="4890"/>
          <a:stretch/>
        </p:blipFill>
        <p:spPr>
          <a:xfrm>
            <a:off x="533520" y="2286000"/>
            <a:ext cx="8229600" cy="28735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177720" y="5637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6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延时断开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439440" y="289440"/>
            <a:ext cx="2199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2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脉冲产生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217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X2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以分别产生占空比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脉冲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时钟信号，在需要可以直接应用。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中，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接点控制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1984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5104800"/>
            <a:ext cx="54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7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特殊辅助继电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波形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8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0880" y="1218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实际应用中也可以组成振荡电路产生任意周期的脉冲信号。例如，产生周期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脉冲持续时间为一个扫描周期的信号，梯形图和时序图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686800" cy="19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910240" y="4723560"/>
            <a:ext cx="28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8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生周期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脉冲信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28600" y="456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两个定时器产生一个占空比可调的任意周期的脉冲信号，脉冲信号的低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高电平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848720" cy="2853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4952880" cy="2505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477120" y="397764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的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699160"/>
            <a:ext cx="23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5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 产生脉冲信号程序中元件的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2933640"/>
          <a:ext cx="9145440" cy="2374920"/>
        </p:xfrm>
        <a:graphic>
          <a:graphicData uri="http://schemas.openxmlformats.org/drawingml/2006/table">
            <a:tbl>
              <a:tblPr/>
              <a:tblGrid>
                <a:gridCol w="1419120"/>
                <a:gridCol w="1722600"/>
                <a:gridCol w="1571400"/>
                <a:gridCol w="1476720"/>
                <a:gridCol w="1477800"/>
                <a:gridCol w="14778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控 制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对 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过载保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2156040" y="151200"/>
            <a:ext cx="494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6.3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实习操作：三台电动机顺序启动控制线路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03716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机械设备有三台电动机，控制要求如下：按下启动按钮，第一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二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，第三台电动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。按下停止按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台电动机全部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442960" y="213300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rcRect l="0" t="0" r="0" b="2799"/>
          <a:stretch/>
        </p:blipFill>
        <p:spPr>
          <a:xfrm>
            <a:off x="380880" y="228600"/>
            <a:ext cx="8610840" cy="4917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177720" y="57906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49543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330000" y="60192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台电动机顺序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60199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82800" y="379800"/>
            <a:ext cx="15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7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堆栈、主控指令与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－△形启动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0520" y="990000"/>
            <a:ext cx="4105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7.1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进栈、读栈、出栈指令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S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RD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86400" cy="486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53080" y="5333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堆栈指令执行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1066680"/>
          <a:ext cx="9144000" cy="2284200"/>
        </p:xfrm>
        <a:graphic>
          <a:graphicData uri="http://schemas.openxmlformats.org/drawingml/2006/table">
            <a:tbl>
              <a:tblPr/>
              <a:tblGrid>
                <a:gridCol w="1297080"/>
                <a:gridCol w="1446120"/>
                <a:gridCol w="5105520"/>
                <a:gridCol w="1295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记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令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作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进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各级数据依次下移到下一级单元；当前运算结果送入堆栈第一级单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读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；各级数据位置不发生上移或下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堆栈第一级单元的数据送入运算器，其他各级数据依次上移到上一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478960" y="456480"/>
            <a:ext cx="39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41896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栈、读栈、出栈指令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应该成对使用，而且连续使用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次，否则数据溢出丢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P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时，如果其后是单个接点，需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如果其后是电路块，则在电路块的始点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然后用块与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961640" y="44208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153640" cy="5014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562200" y="63237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3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0720" y="53244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写入图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所示的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步指令语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17520"/>
            <a:ext cx="815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/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/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  LD  X   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UT/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/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OP/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  OUT  Y 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ND/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屏幕显示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  END 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键，光标下移一行，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步指令输入完毕。全部程序写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存储器，手持编程器屏幕上显示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5867280"/>
            <a:ext cx="1141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380880" y="4603680"/>
          <a:ext cx="7696440" cy="146052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      0   LD     X    006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取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状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 OUT    Y    000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输出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END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程序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NOP                                …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空指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961640" y="380160"/>
            <a:ext cx="251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5032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76800" y="586656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4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58000" y="684720"/>
            <a:ext cx="29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写出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示的程序的指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81880" cy="3899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894760" y="5637960"/>
            <a:ext cx="26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5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二级堆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219320"/>
          <a:ext cx="9144000" cy="1095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助  记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指 令 名 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逻 辑 功 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操 作 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步 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开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复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主控结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58520" y="213840"/>
            <a:ext cx="240264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7.2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主控、主控复位指令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80640" y="761400"/>
            <a:ext cx="35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指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8353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控、主控复位指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接点接通时，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指令。主控接点断开，计数器、累积定时器，以及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ET/RS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驱动的元件保持当前状态，其余的均处在断开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，左母线移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点之后，所以要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；执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后返回到原来的母线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必须成对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使用不同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件号，可以多次使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主控指令可以嵌套，但最多不能超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嵌套级的编号顺次增大（按顺序由小到大），返回时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C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，根据编号从大到小开始解除（按顺序由大到小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987200" y="303840"/>
            <a:ext cx="23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分析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6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程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387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467160" y="609516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6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控指令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379800"/>
            <a:ext cx="8458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3.7.3  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实习操作：电动机</a:t>
            </a:r>
            <a:r>
              <a:rPr b="1" lang="zh-CN" sz="2400" spc="-1" strike="noStrike">
                <a:solidFill>
                  <a:srgbClr val="cc0000"/>
                </a:solidFill>
                <a:latin typeface="Times New Roman MT Extra Bold"/>
                <a:ea typeface="黑体"/>
              </a:rPr>
              <a:t>Y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-△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压启动控制线路与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9896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控制要求如下：当按下启动按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电动机绕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连接启动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后自动转为△形连接运行。当按下停上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电动机停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313360" y="1980360"/>
            <a:ext cx="35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端口分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2438280"/>
          <a:ext cx="9144000" cy="2924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   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输 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元 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作    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电源接触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停止按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启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热继电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接触器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391160" cy="5454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975040" y="60192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7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559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822760" y="6247800"/>
            <a:ext cx="31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8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动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压启动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y" descr=""/>
          <p:cNvPicPr/>
          <p:nvPr/>
        </p:nvPicPr>
        <p:blipFill>
          <a:blip r:embed="rId2"/>
          <a:stretch/>
        </p:blipFill>
        <p:spPr>
          <a:xfrm>
            <a:off x="2033640" y="33908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385080" y="1512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.8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计数控制程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50000" y="609120"/>
            <a:ext cx="201852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1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普通计数器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42960" y="1065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类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1523880"/>
          <a:ext cx="9144000" cy="1782720"/>
        </p:xfrm>
        <a:graphic>
          <a:graphicData uri="http://schemas.openxmlformats.org/drawingml/2006/table">
            <a:tbl>
              <a:tblPr/>
              <a:tblGrid>
                <a:gridCol w="1503360"/>
                <a:gridCol w="1508040"/>
                <a:gridCol w="1712880"/>
                <a:gridCol w="1371600"/>
                <a:gridCol w="304812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数器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编 号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点   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 MT Extra Bold"/>
                          <a:ea typeface="黑体"/>
                        </a:rPr>
                        <a:t>计 数 范 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增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计数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普通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0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掉电保持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2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152280" y="3688200"/>
            <a:ext cx="883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普通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使用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的功能是对输入脉冲进行计数，计数发生在脉冲的上升沿，达到计数器设定值时，计数器接点动作。每个计数器都有一个常开和常闭接点，可以无限次引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有一个设定值寄存器，一个当前值寄存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计数器的设定值范围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76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的设定值范围是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14748364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普通计数器在计数过程中发生断电，则前面所计的数值全部丢失，再次通电后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掉电保持计数器在计数过程中发生断电，则前面所计数值保存，再次通电后从原来数值的基础上继续计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计数器除了计数端外，还需要一个复位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减计数器是循环计数方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984040" y="121680"/>
            <a:ext cx="3628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3.8.2  16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位增计数器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0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C199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619760" cy="54594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2346840" y="6323760"/>
            <a:ext cx="38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69  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增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监控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69880" y="227520"/>
            <a:ext cx="63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 程序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延时多长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能通电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3460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51804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解】 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由定时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组成的振荡电路开始工作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每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一次，使计数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当前值增加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常开接点闭合，使控制对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通。因此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延时时间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定时器的振荡周期值乘以计数器的设定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 0.1×100×10=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9920" y="441900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0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8440" y="334440"/>
            <a:ext cx="1337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运行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2639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方式开关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/S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开关拨向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位置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置于程序运行状态，程序运行指令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2720" y="1858680"/>
            <a:ext cx="971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12300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按下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亮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电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松开按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示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6/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灭，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电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的结果符合控制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控制例子可以看出，一个完整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控制系统是由硬件和软件（用户程序）两部分组成。输入不同的用户程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便具有不同的控制功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456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时器的计时时间都有一个最大值，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m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定时器最大计时时间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76.7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所需要的延时时间大于最大值，可以采用计数器与定时器配合获得较长延时时间。在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的梯形图程序中，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持接通后，经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.1s×18000×10 = 18000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延时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接通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848360" cy="4344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06520" y="6323760"/>
            <a:ext cx="42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1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定时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成的长延时控制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87360" y="1020240"/>
            <a:ext cx="483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8.3  3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位增减计数器（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00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C234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231804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增减计数器（又可称为双向计数器）有增计数和减计数两种工作方式，其计数方式由特殊辅助继电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2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决定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减计数，状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程序中不出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8□□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增计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普通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增减计数器的工作过程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7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示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方式控制端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复位端 ，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计数信号输入端，控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计数器进行计数操作。计数器的当前值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增大）时，其接点接通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当计数器的当前值由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到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（减小）时，其接点断开（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713560" cy="6477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553080" y="2179080"/>
            <a:ext cx="152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72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增减计数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20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程序与动作时序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77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7493"/>
                </a:moveTo>
                <a:lnTo>
                  <a:pt x="11615" y="7493"/>
                </a:lnTo>
                <a:lnTo>
                  <a:pt x="11615" y="12828"/>
                </a:lnTo>
                <a:cubicBezTo>
                  <a:pt x="11615" y="13751"/>
                  <a:pt x="12416" y="14482"/>
                  <a:pt x="13451" y="14482"/>
                </a:cubicBezTo>
                <a:lnTo>
                  <a:pt x="15114" y="14482"/>
                </a:lnTo>
                <a:cubicBezTo>
                  <a:pt x="16150" y="14482"/>
                  <a:pt x="16950" y="13751"/>
                  <a:pt x="16950" y="12828"/>
                </a:cubicBezTo>
                <a:lnTo>
                  <a:pt x="16950" y="7493"/>
                </a:lnTo>
                <a:lnTo>
                  <a:pt x="15114" y="7493"/>
                </a:lnTo>
                <a:lnTo>
                  <a:pt x="18621" y="3985"/>
                </a:lnTo>
                <a:lnTo>
                  <a:pt x="22294" y="7493"/>
                </a:lnTo>
                <a:lnTo>
                  <a:pt x="20458" y="7493"/>
                </a:lnTo>
                <a:lnTo>
                  <a:pt x="20458" y="12828"/>
                </a:lnTo>
                <a:cubicBezTo>
                  <a:pt x="20458" y="15596"/>
                  <a:pt x="17882" y="18155"/>
                  <a:pt x="15114" y="18155"/>
                </a:cubicBezTo>
                <a:lnTo>
                  <a:pt x="13451" y="18155"/>
                </a:lnTo>
                <a:cubicBezTo>
                  <a:pt x="10684" y="18155"/>
                  <a:pt x="8107" y="15596"/>
                  <a:pt x="810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202200" y="2666880"/>
            <a:ext cx="31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    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5791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13474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11628" y="3794"/>
                </a:lnTo>
                <a:lnTo>
                  <a:pt x="11628" y="17806"/>
                </a:lnTo>
                <a:lnTo>
                  <a:pt x="99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13080" y="487080"/>
            <a:ext cx="1850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3.1.2  PLC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的应用、分类及程序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7280" y="1020240"/>
            <a:ext cx="2257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的主要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2600" y="16610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开关量逻辑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675440"/>
            <a:ext cx="172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模拟量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5800" y="219456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多级控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2208960"/>
            <a:ext cx="7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运动控制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440" y="2696760"/>
            <a:ext cx="170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LC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32480" y="342792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结构可分为整体式和模块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02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小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微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小型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为中型机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数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以上为大型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0993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输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接口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口）总数的多少可分为微型机、小型机、中型机和大型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5T02:00:0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